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0.png" ContentType="image/png"/>
  <Override PartName="/ppt/media/applause.wav" ContentType="audio/x-wav"/>
  <Override PartName="/ppt/media/image17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2993-98B6-4B9F-B5E9-042D47AA8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F0E-1AE6-4EDF-A309-E5A031A9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AE8-BA82-49A4-A3EC-9C8CC330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0FB-D05C-413D-BF58-74269C4D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9895-F851-43B8-B400-763D227D5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3968-6D78-4229-BC1F-333192F0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8BC2-1E71-4E53-80B6-997C1D76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14ED-EBE8-455B-9FDE-EFEEC677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CB6C-6B20-4A99-B2C2-4E6ADAF7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5752-83FA-4793-A15F-FFE9857C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C850-E063-4ABD-A55A-14A2C5DE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7CA-EBA3-491A-8984-3F38B47E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6810-C7AA-4C62-AE3C-549D9FC4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CB7F8-2B2E-45FF-9346-CE2508A1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EE36-0DF0-48CF-8263-7296B5E7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82EC-5870-46B6-85F5-15C89BBC7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880C-A6E0-496E-8187-0B7F7D99D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FEEF6-381D-4D21-99DC-266089F3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D8EB0-1D28-4B5D-ACB6-6AF95A35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179F8-F576-44DE-9781-8E428353B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B809E-1810-4A49-B17B-0FCEA04D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41751-61E9-4B5F-992A-0B0D8429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AF6-FFE8-42EC-BB25-A56640325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D4AD5-60B0-4F83-A640-F863FC0A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347EB-DD83-49F0-9B4E-9B706DBA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1E434-14E5-4DDD-A124-DDB42003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5BD1B-6FFB-48F2-93DD-1B84A135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DF143-662E-4B58-9884-8EA90F57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E0AE7-6307-462D-A183-2C6EBF269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FE82-086A-4183-8373-097BBCEE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490F0-6C26-44DB-97C1-9E75B075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BFF22-D9F5-4E34-9675-8A07C08F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BE1A5-7315-4334-BEF0-585FCD7D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A24-C20B-496E-A801-C29064CE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1734D-A9E0-49D2-A577-C274C9C4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CEE7A-B239-4F49-AEB2-40B447F8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00F0A-381D-414C-B090-B0C53E95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A6437-06E0-429E-918F-D919E652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D473A-09BC-4F39-B0B2-3CE99927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5AA6B-AAB4-4B6B-9F97-775C3D66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F74F5-0377-4866-A274-06772C3A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CEFD3-3C2A-409D-9B8A-135174302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BB91F-8A55-4B27-A69A-0EEE2E0D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69B85-FCF7-4987-8BB7-33EE89D72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C685-0B22-4EE1-BD2B-635E8695E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06006-7239-450D-9F1E-746CDE66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A8962-B4B5-4901-A6FC-97D269BA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36DB8-1ECF-4E6C-9BA1-E7353FFD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60034-A4AA-49FE-936E-221D35B0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DAB73-EF8F-47D3-9F8B-A14E34DF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EFB6B-B0A6-4C7A-9F11-7D306F66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607B-433B-49B9-9EA9-220679CE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BDC13-AED4-4B67-ABF3-D34DCF8B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4BA25-C9D5-4BF4-972A-88C7D142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28B68-E95C-43FA-AB8C-73AA5D7D6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E090-616C-4BDB-BD5A-21263FD3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AF641-601E-4CC5-B7BF-CACF37184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4CEC6-2B1F-44AE-A2A0-6F4AD3BB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6307D-1F53-487A-A8E8-898D4BB4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F0D27-DD27-41DC-9A47-535BE94A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3A7E5-4F42-4E99-A311-4DAE91BC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98AD2-C642-4C84-98D4-D7E8E0B9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7F60A-ED27-453E-AC2E-1CADE681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D53EC-CA0F-4A74-910F-FFC739B6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FDBE9-6E9C-4616-B893-8B40CFEC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766CC-3C25-4499-AC88-50FF7E5D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0C9-FF29-4A81-9302-BFDE9144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33C70-09DA-436D-95CD-9F5BF72B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002A6-1D73-4A99-8B76-C436FA8F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1DE95-B213-408E-B441-2B3F0850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D8092-FB97-4AB2-A511-77394FD1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BAD32-BBEB-4577-A593-9968A1AD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BB853-C351-4952-A4E0-45B1CDD7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532E3-BABF-4BDA-B5CA-DB8D6073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0416A-C489-43F2-8C66-9CCE53B3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66647-5B25-4FD1-A792-9FCDD7EE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C1B51-88F3-48D1-B683-92BCD131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872E-54EB-4123-82B0-795F0087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90389-9ABB-47EA-B802-09198847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541BA-65F0-45D3-9D49-4A485B04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6463C-2CBE-457F-BED1-F8AEBA6B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59026-4949-40EB-9AFC-3FF6F12C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C930D-F909-4BF2-BA02-28A2EB0B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A7EDC-1759-423A-8EDC-EA36C543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5F7F6-7C21-4831-A92D-01274209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25726-EBBF-477E-9430-6EE02FA5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C0467-DC5B-4714-A4BF-2D6E44A7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0B552-AE22-471A-ABE0-D7A2BD50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F773-6355-4E2A-8C9C-A5010996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4825B-9C11-4F57-AA48-26EF992C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C3CA6-6B71-40D4-8C53-B1A64C4A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28B55-87E4-41CE-AEC2-625E3985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1D08A-785E-427D-8C7F-AB38EE67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C23F82-0FE7-453D-93AC-0252C64F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260FA-B008-4A0E-AF95-26E9D118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F569D-4424-4F35-B202-A46B460F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AAD1-5842-40D0-8C49-74BDF503E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A721-945C-4EE4-90F5-A17F9E1A40E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DB30-0CF4-498D-90B2-34167A1AE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9F7C-AE89-478B-B84F-E2F7F642CC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0EA9-FB8C-43D0-BA7A-5AE23BDD5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47A6-055D-434B-85BA-856A709D7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DD88-D8C7-4708-8C7B-094208B317A3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F721A-5E44-4D8F-822B-1C827CE67DD6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46" name="WordArt 8"/>
          <p:cNvSpPr txBox="1"/>
          <p:nvPr/>
        </p:nvSpPr>
        <p:spPr>
          <a:xfrm>
            <a:off x="457200" y="457200"/>
            <a:ext cx="838188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e Short Stor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" name="WordArt 12"/>
          <p:cNvSpPr txBox="1"/>
          <p:nvPr/>
        </p:nvSpPr>
        <p:spPr>
          <a:xfrm>
            <a:off x="1523880" y="3124080"/>
            <a:ext cx="5943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ove and Tim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3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5" descr=""/>
          <p:cNvPicPr/>
          <p:nvPr/>
        </p:nvPicPr>
        <p:blipFill>
          <a:blip r:embed="rId1"/>
          <a:stretch/>
        </p:blipFill>
        <p:spPr>
          <a:xfrm>
            <a:off x="-262080" y="-334800"/>
            <a:ext cx="9655200" cy="7589520"/>
          </a:xfrm>
          <a:prstGeom prst="rect">
            <a:avLst/>
          </a:prstGeom>
          <a:ln w="0">
            <a:noFill/>
          </a:ln>
        </p:spPr>
      </p:pic>
      <p:pic>
        <p:nvPicPr>
          <p:cNvPr id="372" name="57  frailty - urban.mp3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4823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74" name="Content Placeholder 3" descr="thumbnailCALY0FQW.jpg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thumbnailCAO058FD.jpg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376" name="TextBox 5"/>
          <p:cNvSpPr/>
          <p:nvPr/>
        </p:nvSpPr>
        <p:spPr>
          <a:xfrm>
            <a:off x="0" y="55339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Arial"/>
              </a:rPr>
              <a:t>Practice time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55   guillotine - urban.mp3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457200" cy="3510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03262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pic>
        <p:nvPicPr>
          <p:cNvPr id="379" name="Content Placeholder 3" descr="thumbnailCANCURK5.jpg"/>
          <p:cNvPicPr/>
          <p:nvPr/>
        </p:nvPicPr>
        <p:blipFill>
          <a:blip r:embed="rId1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thumbnailCAWGU27J.jpg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124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thumbnailCAD6HE2E.jpg"/>
          <p:cNvPicPr/>
          <p:nvPr/>
        </p:nvPicPr>
        <p:blipFill>
          <a:blip r:embed="rId3"/>
          <a:stretch/>
        </p:blipFill>
        <p:spPr>
          <a:xfrm>
            <a:off x="4419720" y="3124080"/>
            <a:ext cx="4724280" cy="373392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"/>
          <p:cNvSpPr/>
          <p:nvPr/>
        </p:nvSpPr>
        <p:spPr>
          <a:xfrm>
            <a:off x="457200" y="274320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During presentation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11 Whisper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29551" fill="hold"/>
                                        <p:tgtEl>
                                          <p:spTgt spid="3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8800" spc="-1" strike="noStrike">
                <a:solidFill>
                  <a:srgbClr val="ffffff"/>
                </a:solidFill>
                <a:latin typeface="Adobe Ming Std L"/>
                <a:ea typeface="Adobe Ming Std L"/>
              </a:rPr>
              <a:t>THANK YOU </a:t>
            </a:r>
            <a:endParaRPr b="0" lang="en-US" sz="8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7200" spc="-1" strike="noStrike">
                <a:solidFill>
                  <a:srgbClr val="ffffff"/>
                </a:solidFill>
                <a:latin typeface="Adobe Kaiti Std R"/>
                <a:ea typeface="Adobe Kaiti Std R"/>
              </a:rPr>
              <a:t>GOD BLESS!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5" name="Picture 3" descr="5dfcb5b089e3dc20.jpg"/>
          <p:cNvPicPr/>
          <p:nvPr/>
        </p:nvPicPr>
        <p:blipFill>
          <a:blip r:embed="rId1"/>
          <a:stretch/>
        </p:blipFill>
        <p:spPr>
          <a:xfrm>
            <a:off x="7162920" y="3733920"/>
            <a:ext cx="838080" cy="761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horz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9" name="Rectangle 2" descr=""/>
          <p:cNvPicPr/>
          <p:nvPr/>
        </p:nvPicPr>
        <p:blipFill>
          <a:blip r:embed="rId2"/>
          <a:stretch/>
        </p:blipFill>
        <p:spPr>
          <a:xfrm>
            <a:off x="433440" y="85680"/>
            <a:ext cx="8618400" cy="15843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5638320" y="1599840"/>
            <a:ext cx="3505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Lov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Richnes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Vanity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Sadnes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Happines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Knowledg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0042"/>
                </a:solidFill>
                <a:latin typeface="Century Gothic"/>
              </a:rPr>
              <a:t>Time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76176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2" name="Picture 5" descr="love-wallpaper2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TextBox 3"/>
          <p:cNvSpPr/>
          <p:nvPr/>
        </p:nvSpPr>
        <p:spPr>
          <a:xfrm>
            <a:off x="990720" y="5715000"/>
            <a:ext cx="7543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The one who needs help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8" descr="money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Rectangle 2" descr=""/>
          <p:cNvPicPr/>
          <p:nvPr/>
        </p:nvPicPr>
        <p:blipFill>
          <a:blip r:embed="rId2"/>
          <a:stretch/>
        </p:blipFill>
        <p:spPr>
          <a:xfrm>
            <a:off x="328680" y="-73080"/>
            <a:ext cx="8364600" cy="174312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5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b050"/>
                </a:solidFill>
                <a:latin typeface="Century Gothic"/>
              </a:rPr>
              <a:t>Doesn’t need Love because they are happy with their mone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6" descr="thumbnailCA2COU4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Rectangle 2" descr=""/>
          <p:cNvPicPr/>
          <p:nvPr/>
        </p:nvPicPr>
        <p:blipFill>
          <a:blip r:embed="rId2"/>
          <a:stretch/>
        </p:blipFill>
        <p:spPr>
          <a:xfrm>
            <a:off x="-171360" y="-665280"/>
            <a:ext cx="8638920" cy="29577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80"/>
                </a:solidFill>
                <a:latin typeface="Century Gothic"/>
              </a:rPr>
              <a:t>Doesn’t need Love because of their emptiness they hated Lov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thumbnailCAJAIDV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1" name="Rectangle 2" descr=""/>
          <p:cNvPicPr/>
          <p:nvPr/>
        </p:nvPicPr>
        <p:blipFill>
          <a:blip r:embed="rId2"/>
          <a:stretch/>
        </p:blipFill>
        <p:spPr>
          <a:xfrm>
            <a:off x="371520" y="-12600"/>
            <a:ext cx="8321760" cy="168264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oesn’t need Love because   they want to be alon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5" descr="thumbnailCAP7BEH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4" name="Rectangle 2" descr=""/>
          <p:cNvPicPr/>
          <p:nvPr/>
        </p:nvPicPr>
        <p:blipFill>
          <a:blip r:embed="rId2"/>
          <a:stretch/>
        </p:blipFill>
        <p:spPr>
          <a:xfrm>
            <a:off x="-208080" y="-225360"/>
            <a:ext cx="9358560" cy="20970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hey forget about Love because they are full of Happines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5" descr="thumbnailCASAXCB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Rectangle 2" descr=""/>
          <p:cNvPicPr/>
          <p:nvPr/>
        </p:nvPicPr>
        <p:blipFill>
          <a:blip r:embed="rId2"/>
          <a:stretch/>
        </p:blipFill>
        <p:spPr>
          <a:xfrm>
            <a:off x="311040" y="-103320"/>
            <a:ext cx="8382240" cy="17733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The one who knows the value of Love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6" descr="shdhs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entury Gothic"/>
              </a:rPr>
              <a:t>The one who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entury Gothic"/>
              </a:rPr>
              <a:t>understands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Century Gothic"/>
              </a:rPr>
              <a:t>Lov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 advTm="1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9:51:26Z</dcterms:created>
  <dc:creator>nave1386</dc:creator>
  <dc:description/>
  <dc:language>en-US</dc:language>
  <cp:lastModifiedBy>nave1386</cp:lastModifiedBy>
  <dcterms:modified xsi:type="dcterms:W3CDTF">2010-09-23T19:30:35Z</dcterms:modified>
  <cp:revision>20</cp:revision>
  <dc:subject/>
  <dc:title>Slide 1</dc:title>
</cp:coreProperties>
</file>